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comments/comment3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4825" cy="9752013"/>
</p:presentation>
</file>

<file path=ppt/commentAuthors.xml><?xml version="1.0" encoding="utf-8"?>
<p:cmAuthorLst xmlns:p="http://schemas.openxmlformats.org/presentationml/2006/main">
  <p:cmAuthor id="0" name="Аня" initials="А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<Relationship Id="rId18" Type="http://schemas.openxmlformats.org/officeDocument/2006/relationships/commentAuthors" Target="commentAuthors.xml"/>
</Relationships>
</file>

<file path=ppt/comments/comment3.xml><?xml version="1.0" encoding="utf-8"?>
<p:cmLst xmlns:p="http://schemas.openxmlformats.org/presentationml/2006/main">
  <p:cm authorId="0" dt="2007-04-16T17:10:54.484000000" idx="1">
    <p:pos x="10" y="1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368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75FE9-D9EC-4871-BEE0-98509C04B50B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Закаливание организма и     его влияние   на здоровье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FE261-26C5-498D-B3FD-3B007588BAA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ff00"/>
                </a:solidFill>
                <a:uFillTx/>
                <a:latin typeface="Times New Roman"/>
              </a:rPr>
              <a:t>ВОЗДУШНЫЕ ВАН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ff33"/>
                </a:solidFill>
                <a:latin typeface="Tunga"/>
              </a:rPr>
              <a:t>Этот тип доступный каждому человеку в любое время года. Воздух действует непосредственно на наше тело. Кожу, приводит к ряду биохимических изменений в клетках тканей, раздражает кожные рецепторы нервной системы. Воздушные ванны лучше всего применять на открытом воздухе, их полезно сочетать с различными физическими упражнениями – ходьбой, бегом, гимнастикой</a:t>
            </a:r>
            <a:r>
              <a:rPr b="0" i="1" lang="ru-RU" sz="1200" spc="-1" strike="noStrike">
                <a:solidFill>
                  <a:srgbClr val="003300"/>
                </a:solidFill>
                <a:latin typeface="Tung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77811-CBFE-4AE4-A1DF-7F19098427C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00"/>
                </a:solidFill>
                <a:uFillTx/>
                <a:latin typeface="Calibri"/>
              </a:rPr>
              <a:t>ОБТИР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stellar"/>
              </a:rPr>
              <a:t>Процедура обтирания: полотенц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stellar"/>
              </a:rPr>
              <a:t>губку или специальну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stellar"/>
              </a:rPr>
              <a:t>рукавичку из материи смачив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stellar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stellar"/>
              </a:rPr>
              <a:t>в воде и слегка отжима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stellar"/>
              </a:rPr>
              <a:t>Затем последователь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stellar"/>
              </a:rPr>
              <a:t>производят обтирание ру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stellar"/>
              </a:rPr>
              <a:t>(в направлении от пальцев 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stellar"/>
              </a:rPr>
              <a:t>плечам), шеи, груди, живот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stellar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stellar"/>
              </a:rPr>
              <a:t>спины и ног. После этого те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stellar"/>
              </a:rPr>
              <a:t>растирают сухим жёстким полотенцем до покраснения и появления приятного ощущения тепл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4E816-D693-45A0-90ED-4BF8A95E3FE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ХОЖДЕНИЕ БОСИ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Gigi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Gigi"/>
              </a:rPr>
              <a:t>Хождение босиком испокон веков использовалась для профилактики и лечения многих заболеваний. Современная наука подтверждает пользу босохождения. Прогулка по свежему снегу на первых порах должна быть не более 2 – 4 минут. Ходьба босиком – это сильнейшее профилактическое и целительное средство, одна из составляющих системы здорового образа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8F48F-2F7F-4F8F-AE50-CFFFF8AE381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Showcard Gothic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Showcard Gothic"/>
              </a:rPr>
              <a:t>Закаливание – это повышение устойчивости организма к неблагоприятному воздействию ряда факторов окружающей среды (низкой или высокой температуры) путём систематического воздействия на организм этих факто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Showcard Gothic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Showcard Gothic"/>
              </a:rPr>
              <a:t>В основе закаливания лежит способность организма человека приспосабливаться меняющимся условием окружающей ср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E9B5C-23B9-4C75-8660-4DB86CA1188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unga"/>
              </a:rPr>
              <a:t>  </a:t>
            </a:r>
            <a:r>
              <a:rPr b="1" i="1" lang="ru-RU" sz="1200" spc="-1" strike="noStrike">
                <a:solidFill>
                  <a:srgbClr val="ffff00"/>
                </a:solidFill>
                <a:latin typeface="Shruti"/>
              </a:rPr>
              <a:t>Использование закаливающих процедур было известно человеку ещё в древние времена. Им в укреплении здоровья отводил большую роль Гиппократ (древнегреческий врач, реформатор античной медицины). По его мнению, особой целительной силой обладают холодовые закаливающие процедуры, а те, кто держит тело в тепле, приобретают изнеженность мышц, слабость нервов, обмороки и кровотеч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13CDA-D39F-4B2D-B39C-4A6BB5FF487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Tunga"/>
              </a:rPr>
              <a:t>ОБЛИ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unga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Tunga"/>
              </a:rPr>
              <a:t>Хорошим методом закаливания является обливание холодной водой. Для этого берут 2 – 3 ведра холодной воды желаемой температуры и выливают на всё тело. Основную роль при обливании играет температурное раздражение кожи, рефлекторно оказывает тонизирующее, дыхание. После обливания тело необходимо обтереть сухим полотенц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6408A-DEEA-4447-A47E-D50B6B6A2FA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66ff"/>
                </a:solidFill>
                <a:uFillTx/>
                <a:latin typeface="Calibri"/>
              </a:rPr>
              <a:t>Правила закаливания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ffff"/>
                </a:solidFill>
                <a:latin typeface="Calibri"/>
              </a:rPr>
              <a:t>Необходимость психологического настроя на закаливание, заинтересованность в нём . Это самый важный принци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ffff"/>
                </a:solidFill>
                <a:latin typeface="Calibri"/>
              </a:rPr>
              <a:t>Закаливание должно быть  систематич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ffff"/>
                </a:solidFill>
                <a:latin typeface="Calibri"/>
              </a:rPr>
              <a:t>Закаливание должно быть комплексным, что предполагает различные виды закаливания: пассивные и активные, общие местные, коллективные   индивидуальные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ffff"/>
                </a:solidFill>
                <a:latin typeface="Calibri"/>
              </a:rPr>
              <a:t>Закаливание должно быть постепенным, время контакта с сильным холодом  должно увеличиваться постепен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ffff"/>
                </a:solidFill>
                <a:latin typeface="Calibri"/>
              </a:rPr>
              <a:t>Закаливание должно проводиться с учётом индивидуальных особенностей организма и климатических условий конкретного реги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ffff"/>
                </a:solidFill>
                <a:latin typeface="Calibri"/>
              </a:rPr>
              <a:t>Закаливание должно быть «на грани удовольствия«, т.е. не насиловать себя чрезмерными нагрузками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A5FEB-2739-440F-8869-347C4EC7FF5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8000"/>
                </a:solidFill>
                <a:uFillTx/>
                <a:latin typeface="Tunga"/>
              </a:rPr>
              <a:t>КУПАНИЕ В ОТКРЫТЫХ ВОДОЁМ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ff00"/>
                </a:solidFill>
                <a:latin typeface="Tunga"/>
              </a:rPr>
              <a:t>Наиболее эффективным средством закаливания является купание в открытых водоёмах. Во время купания на организм одновременно воздействует солнце, воздух и вода. Прежде чем купаться, обязательно обращайте внимание на правила безопасного поведения при купании. Купаться рекомендуется не раньше, чем через 1 – 1,5 часа после 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1760C-37E4-49EA-9880-64D8B146F71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6600"/>
                </a:solidFill>
                <a:uFillTx/>
                <a:latin typeface="Tunga"/>
              </a:rPr>
              <a:t>МОРЖЕ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9900"/>
                </a:solidFill>
                <a:latin typeface="Tunga"/>
              </a:rPr>
              <a:t>  </a:t>
            </a:r>
            <a:r>
              <a:rPr b="0" i="1" lang="ru-RU" sz="1200" spc="-1" strike="noStrike">
                <a:solidFill>
                  <a:srgbClr val="ff6600"/>
                </a:solidFill>
                <a:latin typeface="Tunga"/>
              </a:rPr>
              <a:t>Наиболее эффективной водной процедурой является купание в ледяной воде. Однако подготовка к этому требует специальной тренировки и знаний физиологических процессов, проходящих в организме человека при купании в ледяной воде. Это высшая форма закаливания, так как в короткое время подключает к борьбе «за выживание» все органы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499F3-D323-48DF-B05D-3F4792106A3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3300"/>
                </a:solidFill>
                <a:uFillTx/>
                <a:latin typeface="Tunga"/>
              </a:rPr>
              <a:t>СОЛНЕЧНЫЕ</a:t>
            </a:r>
            <a:r>
              <a:rPr b="0" lang="ru-RU" sz="1200" spc="-1" strike="noStrike" u="sng">
                <a:solidFill>
                  <a:srgbClr val="ff3300"/>
                </a:solidFill>
                <a:uFillTx/>
                <a:latin typeface="Tunga"/>
              </a:rPr>
              <a:t> </a:t>
            </a:r>
            <a:r>
              <a:rPr b="0" lang="ru-RU" sz="2400" spc="-1" strike="noStrike" u="sng">
                <a:solidFill>
                  <a:srgbClr val="ff3300"/>
                </a:solidFill>
                <a:uFillTx/>
                <a:latin typeface="Tunga"/>
              </a:rPr>
              <a:t>ВАН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1200" spc="-1" strike="noStrike">
                <a:solidFill>
                  <a:srgbClr val="ff0000"/>
                </a:solidFill>
                <a:latin typeface="Tunga"/>
              </a:rPr>
              <a:t>Этот тип закаливания следует принимать разумно, иначе вместо пользы они могут вызвать ожоги кожи, перегрев организма, солнечный удар, перевозбуждение нервной системы. Прием солнечных ванн целесообразно сочетать с водными процедурами. После приёма рекомендуется 10 – 15 минут побыть в тени, а затем принять душ или искупа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B0053-397C-4C5D-AC8E-EFDDE0F9F11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9878-C4B4-47B2-89B2-531FAB4A4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07A4-F285-4D0B-A3E1-9152036A0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8B85-2572-47F7-8E9F-0A320A978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9BBA-F863-4A02-9CD1-F939286B4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3973-FDCB-4293-A6CB-FA73C586C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A031-70B6-4874-93E9-13A11DA92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799E-CAB1-4DE0-A246-28DC3BAD3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FC59-50B5-44A9-A9AF-13652D64A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047F-5E24-429D-86E8-85AC5A131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F376-A1B3-4A98-A40B-29A64893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BEAA-96AE-4CFD-A400-23CFB29D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E762-1E1E-4886-849D-C322668E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87D76-C560-4A25-9079-62D954F1018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48000" y="1773360"/>
            <a:ext cx="3995640" cy="39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ccff"/>
                </a:solidFill>
                <a:latin typeface="Tahoma"/>
              </a:rPr>
              <a:t>Закаливание организма и     его влияние   на здоровье человек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WordArt 9"/>
          <p:cNvSpPr txBox="1"/>
          <p:nvPr/>
        </p:nvSpPr>
        <p:spPr>
          <a:xfrm>
            <a:off x="4211640" y="620640"/>
            <a:ext cx="4824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3333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ПРЕЗЕНТАЦИЯ</a:t>
            </a:r>
            <a:endParaRPr b="1" lang="en-US" sz="1800" spc="1" strike="noStrike">
              <a:ln w="25560">
                <a:solidFill>
                  <a:srgbClr val="3333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4724280" y="57913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Составила учитель ОБЖ МОУ СОШ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№2 Ковынёва Е.П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ff00"/>
                </a:solidFill>
                <a:uFillTx/>
                <a:latin typeface="Times New Roman"/>
              </a:rPr>
              <a:t>ВОЗДУШНЫЕ ВАНН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ff33"/>
                </a:solidFill>
                <a:latin typeface="Tunga"/>
              </a:rPr>
              <a:t>Этот тип доступный каждому человеку в любое время года. Воздух действует непосредственно на наше тело. Кожу, приводит к ряду биохимических изменений в клетках тканей, раздражает кожные рецепторы нервной системы. Воздушные ванны лучше всего применять на открытом воздухе, их полезно сочетать с различными физическими упражнениями – ходьбой, бегом, гимнастикой</a:t>
            </a:r>
            <a:r>
              <a:rPr b="0" i="1" lang="ru-RU" sz="3200" spc="-1" strike="noStrike">
                <a:solidFill>
                  <a:srgbClr val="003300"/>
                </a:solidFill>
                <a:latin typeface="Tung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mb dir="horz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00"/>
                </a:solidFill>
                <a:uFillTx/>
                <a:latin typeface="Tahoma"/>
              </a:rPr>
              <a:t>ОБТИРА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-360" y="1699920"/>
            <a:ext cx="889308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Процедура обтирания: полотенце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губку или специальную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рукавичку из материи смачиваю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в воде и слегка отжимаю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Затем последовательн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производят обтирание рук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(в направлении от пальцев к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плечам), шеи, груди, живот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спины и ног. После этого тел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растирают сухим жёстким полотенцем до покраснения и появления приятного ощущения теплот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1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62276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e5ffff"/>
                </a:solidFill>
                <a:uFillTx/>
                <a:latin typeface="Tahoma"/>
              </a:rPr>
              <a:t>ХОЖДЕНИЕ БОСИКОМ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5580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igi"/>
              </a:rPr>
              <a:t>   </a:t>
            </a:r>
            <a:r>
              <a:rPr b="1" i="1" lang="ru-RU" sz="2800" spc="-1" strike="noStrike">
                <a:solidFill>
                  <a:srgbClr val="ffffff"/>
                </a:solidFill>
                <a:latin typeface="Gigi"/>
              </a:rPr>
              <a:t>Хождение босиком испокон веков использовалась для профилактики и лечения многих заболеваний. Современная наука подтверждает пользу босохождения. Прогулка по свежему снегу на первых порах должна быть не более 2 – 4 минут. Ходьба босиком – это сильнейшее профилактическое и целительное средство, одна из составляющих системы здорового образа жизн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u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98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179280" y="5589720"/>
            <a:ext cx="8785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лагодарим за внимание!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23640" y="549000"/>
            <a:ext cx="835164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Showcard Gothic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Showcard Gothic"/>
              </a:rPr>
              <a:t>Закаливание – это повышение устойчивости организма к неблагоприятному воздействию ряда факторов окружающей среды (низкой или высокой температуры) путём систематического воздействия на организм этих фактор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4149720"/>
            <a:ext cx="87487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Showcard Gothic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Showcard Gothic"/>
              </a:rPr>
              <a:t>В основе закаливания лежит способность организма человека приспосабливаться меняющимся условием окружающей сре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blinds dir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79280" y="692280"/>
            <a:ext cx="8686800" cy="55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unga"/>
              </a:rPr>
              <a:t>  </a:t>
            </a:r>
            <a:r>
              <a:rPr b="1" i="1" lang="ru-RU" sz="3200" spc="-1" strike="noStrike">
                <a:solidFill>
                  <a:srgbClr val="ffff00"/>
                </a:solidFill>
                <a:latin typeface="Shruti"/>
              </a:rPr>
              <a:t>Использование закаливающих процедур было известно человеку ещё в древние времена. Им в укреплении здоровья отводил большую роль Гиппократ (древнегреческий врач, реформатор античной медицины). По его мнению, особой целительной силой обладают холодовые закаливающие процедуры, а те, кто держит тело в тепле, приобретают изнеженность мышц, слабость нервов, обмороки и кровотечени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Organization Chart 16"/>
          <p:cNvGrpSpPr/>
          <p:nvPr/>
        </p:nvGrpSpPr>
        <p:grpSpPr>
          <a:xfrm>
            <a:off x="0" y="0"/>
            <a:ext cx="9142560" cy="6857640"/>
            <a:chOff x="0" y="0"/>
            <a:chExt cx="9142560" cy="6857640"/>
          </a:xfrm>
        </p:grpSpPr>
        <p:cxnSp>
          <p:nvCxnSpPr>
            <p:cNvPr id="58" name="_s1028"/>
            <p:cNvCxnSpPr>
              <a:stCxn id="59" idx="1"/>
              <a:endCxn id="60" idx="2"/>
            </p:cNvCxnSpPr>
            <p:nvPr/>
          </p:nvCxnSpPr>
          <p:spPr>
            <a:xfrm rot="10800000">
              <a:off x="2742120" y="595440"/>
              <a:ext cx="914760" cy="59637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1" name="_s1029"/>
            <p:cNvCxnSpPr>
              <a:stCxn id="62" idx="1"/>
              <a:endCxn id="60" idx="2"/>
            </p:cNvCxnSpPr>
            <p:nvPr/>
          </p:nvCxnSpPr>
          <p:spPr>
            <a:xfrm rot="10800000">
              <a:off x="2742120" y="595440"/>
              <a:ext cx="914760" cy="5069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3" name="_s1030"/>
            <p:cNvCxnSpPr>
              <a:stCxn id="64" idx="1"/>
              <a:endCxn id="60" idx="2"/>
            </p:cNvCxnSpPr>
            <p:nvPr/>
          </p:nvCxnSpPr>
          <p:spPr>
            <a:xfrm rot="10800000">
              <a:off x="2742120" y="595440"/>
              <a:ext cx="914760" cy="41745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5" name="_s1031"/>
            <p:cNvCxnSpPr>
              <a:stCxn id="66" idx="1"/>
              <a:endCxn id="60" idx="2"/>
            </p:cNvCxnSpPr>
            <p:nvPr/>
          </p:nvCxnSpPr>
          <p:spPr>
            <a:xfrm rot="10800000">
              <a:off x="2742120" y="595440"/>
              <a:ext cx="914760" cy="3280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7" name="_s1032"/>
            <p:cNvCxnSpPr>
              <a:stCxn id="68" idx="1"/>
              <a:endCxn id="60" idx="2"/>
            </p:cNvCxnSpPr>
            <p:nvPr/>
          </p:nvCxnSpPr>
          <p:spPr>
            <a:xfrm rot="10800000">
              <a:off x="2742120" y="595440"/>
              <a:ext cx="914760" cy="2385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9" name="_s1033"/>
            <p:cNvCxnSpPr>
              <a:stCxn id="70" idx="1"/>
              <a:endCxn id="60" idx="2"/>
            </p:cNvCxnSpPr>
            <p:nvPr/>
          </p:nvCxnSpPr>
          <p:spPr>
            <a:xfrm rot="10800000">
              <a:off x="2742120" y="595440"/>
              <a:ext cx="914760" cy="1491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1" name="_s1034"/>
            <p:cNvCxnSpPr>
              <a:stCxn id="72" idx="1"/>
              <a:endCxn id="60" idx="2"/>
            </p:cNvCxnSpPr>
            <p:nvPr/>
          </p:nvCxnSpPr>
          <p:spPr>
            <a:xfrm rot="10800000">
              <a:off x="2742120" y="595440"/>
              <a:ext cx="914760" cy="596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0" name="_s1035"/>
            <p:cNvSpPr/>
            <p:nvPr/>
          </p:nvSpPr>
          <p:spPr>
            <a:xfrm>
              <a:off x="0" y="0"/>
              <a:ext cx="5485680" cy="596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50760">
              <a:solidFill>
                <a:srgbClr val="490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490092"/>
                  </a:solidFill>
                  <a:latin typeface="Calisto MT"/>
                </a:rPr>
                <a:t>Способы закаливания: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_s1036"/>
            <p:cNvSpPr/>
            <p:nvPr/>
          </p:nvSpPr>
          <p:spPr>
            <a:xfrm>
              <a:off x="3656880" y="894240"/>
              <a:ext cx="5485680" cy="596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50760">
              <a:solidFill>
                <a:srgbClr val="5f04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490092"/>
                  </a:solidFill>
                  <a:latin typeface="Agency FB"/>
                </a:rPr>
                <a:t>Обтирание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_s1037"/>
            <p:cNvSpPr/>
            <p:nvPr/>
          </p:nvSpPr>
          <p:spPr>
            <a:xfrm>
              <a:off x="3656880" y="1788840"/>
              <a:ext cx="5485680" cy="596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50760">
              <a:solidFill>
                <a:srgbClr val="490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490092"/>
                  </a:solidFill>
                  <a:latin typeface="Agency FB"/>
                </a:rPr>
                <a:t>Обливание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_s1038"/>
            <p:cNvSpPr/>
            <p:nvPr/>
          </p:nvSpPr>
          <p:spPr>
            <a:xfrm>
              <a:off x="3656880" y="2683440"/>
              <a:ext cx="5485680" cy="596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50760">
              <a:solidFill>
                <a:srgbClr val="490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490092"/>
                  </a:solidFill>
                  <a:latin typeface="Agency FB"/>
                </a:rPr>
                <a:t>Воздушные ванны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_s1039"/>
            <p:cNvSpPr/>
            <p:nvPr/>
          </p:nvSpPr>
          <p:spPr>
            <a:xfrm>
              <a:off x="3656880" y="3577680"/>
              <a:ext cx="5485680" cy="596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50760">
              <a:solidFill>
                <a:srgbClr val="490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490092"/>
                  </a:solidFill>
                  <a:latin typeface="Agency FB"/>
                </a:rPr>
                <a:t>Солнечные ванны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" name="_s1040"/>
            <p:cNvSpPr/>
            <p:nvPr/>
          </p:nvSpPr>
          <p:spPr>
            <a:xfrm>
              <a:off x="3656880" y="4472280"/>
              <a:ext cx="5485680" cy="596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50760">
              <a:solidFill>
                <a:srgbClr val="490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490092"/>
                  </a:solidFill>
                  <a:latin typeface="Agency FB"/>
                </a:rPr>
                <a:t>Купание в открытых водоёмах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" name="_s1041"/>
            <p:cNvSpPr/>
            <p:nvPr/>
          </p:nvSpPr>
          <p:spPr>
            <a:xfrm>
              <a:off x="3656880" y="5366880"/>
              <a:ext cx="5485680" cy="596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50760">
              <a:solidFill>
                <a:srgbClr val="490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490092"/>
                  </a:solidFill>
                  <a:latin typeface="Agency FB"/>
                </a:rPr>
                <a:t>Босохождение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_s1042"/>
            <p:cNvSpPr/>
            <p:nvPr/>
          </p:nvSpPr>
          <p:spPr>
            <a:xfrm>
              <a:off x="3656880" y="6261480"/>
              <a:ext cx="5479920" cy="596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50760">
              <a:solidFill>
                <a:srgbClr val="490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90092"/>
                  </a:solidFill>
                  <a:latin typeface="Agency FB"/>
                </a:rPr>
                <a:t>Моржевание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38163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ccff"/>
                </a:solidFill>
                <a:uFillTx/>
                <a:latin typeface="Tunga"/>
              </a:rPr>
              <a:t>ОБЛИВА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-360" y="907920"/>
            <a:ext cx="414036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ff"/>
                </a:solidFill>
                <a:latin typeface="Tunga"/>
              </a:rPr>
              <a:t>   </a:t>
            </a:r>
            <a:r>
              <a:rPr b="0" lang="ru-RU" sz="2400" spc="-1" strike="noStrike">
                <a:solidFill>
                  <a:srgbClr val="0000ff"/>
                </a:solidFill>
                <a:latin typeface="Tunga"/>
              </a:rPr>
              <a:t>Хорошим методом закаливания является обливание холодной водой. Для этого берут 2 – 3 ведра холодной воды желаемой температуры и выливают на всё тело. Основную роль при обливании играет температурное раздражение кожи, рефлекторно оказывает тонизирующее, дыхание. После обливания тело необходимо обтереть сухим полотенце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66ff"/>
                </a:solidFill>
                <a:uFillTx/>
                <a:latin typeface="Tahoma"/>
              </a:rPr>
              <a:t>Правила закаливания: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7993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ffff"/>
                </a:solidFill>
                <a:latin typeface="Tahoma"/>
              </a:rPr>
              <a:t>Необходимость психологического настроя на закаливание, заинтересованность в нём . Это самый важный принцип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ffff"/>
                </a:solidFill>
                <a:latin typeface="Tahoma"/>
              </a:rPr>
              <a:t>Закаливание должно быть  систематичны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ffff"/>
                </a:solidFill>
                <a:latin typeface="Tahoma"/>
              </a:rPr>
              <a:t>Закаливание должно быть комплексным, что предполагает различные виды закаливания: пассивные и активные, общие местные, коллективные   индивидуальные.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ffff"/>
                </a:solidFill>
                <a:latin typeface="Tahoma"/>
              </a:rPr>
              <a:t>Закаливание должно быть постепенным, время контакта с сильным холодом  должно увеличиваться постепенн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ffff"/>
                </a:solidFill>
                <a:latin typeface="Tahoma"/>
              </a:rPr>
              <a:t>Закаливание должно проводиться с учётом индивидуальных особенностей организма и климатических условий конкретного регион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ffff"/>
                </a:solidFill>
                <a:latin typeface="Tahoma"/>
              </a:rPr>
              <a:t>Закаливание должно быть «на грани удовольствия«, т.е. не насиловать себя чрезмерными нагрузками.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Bar dir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8000"/>
                </a:solidFill>
                <a:uFillTx/>
                <a:latin typeface="Tunga"/>
              </a:rPr>
              <a:t>КУПАНИЕ В ОТКРЫТЫХ ВОДОЁМАХ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ff00"/>
                </a:solidFill>
                <a:latin typeface="Tunga"/>
              </a:rPr>
              <a:t>Наиболее эффективным средством закаливания является купание в открытых водоёмах. Во время купания на организм одновременно воздействует солнце, воздух и вода. Прежде чем купаться, обязательно обращайте внимание на правила безопасного поведения при купании. Купаться рекомендуется не раньше, чем через 1 – 1,5 часа после е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lu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6600"/>
                </a:solidFill>
                <a:uFillTx/>
                <a:latin typeface="Tunga"/>
              </a:rPr>
              <a:t>МОРЖЕВА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9900"/>
                </a:solidFill>
                <a:latin typeface="Tunga"/>
              </a:rPr>
              <a:t>  </a:t>
            </a:r>
            <a:r>
              <a:rPr b="0" i="1" lang="ru-RU" sz="3200" spc="-1" strike="noStrike">
                <a:solidFill>
                  <a:srgbClr val="ff6600"/>
                </a:solidFill>
                <a:latin typeface="Tunga"/>
              </a:rPr>
              <a:t>Наиболее эффективной водной процедурой является купание в ледяной воде. Однако подготовка к этому требует специальной тренировки и знаний физиологических процессов, проходящих в организме человека при купании в ледяной воде. Это высшая форма закаливания, так как в короткое время подключает к борьбе «за выживание» все органы челове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ssolv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3300"/>
                </a:solidFill>
                <a:uFillTx/>
                <a:latin typeface="Tunga"/>
              </a:rPr>
              <a:t>СОЛНЕЧНЫЕ</a:t>
            </a:r>
            <a:r>
              <a:rPr b="0" lang="ru-RU" sz="4400" spc="-1" strike="noStrike" u="sng">
                <a:solidFill>
                  <a:srgbClr val="ff3300"/>
                </a:solidFill>
                <a:uFillTx/>
                <a:latin typeface="Tunga"/>
              </a:rPr>
              <a:t> </a:t>
            </a:r>
            <a:r>
              <a:rPr b="0" lang="ru-RU" sz="4800" spc="-1" strike="noStrike" u="sng">
                <a:solidFill>
                  <a:srgbClr val="ff3300"/>
                </a:solidFill>
                <a:uFillTx/>
                <a:latin typeface="Tunga"/>
              </a:rPr>
              <a:t>ВАННЫ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56516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2800" spc="-1" strike="noStrike">
                <a:solidFill>
                  <a:srgbClr val="ff0000"/>
                </a:solidFill>
                <a:latin typeface="Tunga"/>
              </a:rPr>
              <a:t>Этот тип закаливания следует принимать разумно, иначе вместо пользы они могут вызвать ожоги кожи, перегрев организма, солнечный удар, перевозбуждение нервной системы. Прием солнечных ванн целесообразно сочетать с водными процедурами. После приёма рекомендуется 10 – 15 минут побыть в тени, а затем принять душ или искупатьс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r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6T02:35:41Z</dcterms:created>
  <dc:creator>костян</dc:creator>
  <dc:description/>
  <dc:language>en-US</dc:language>
  <cp:lastModifiedBy>LEGION</cp:lastModifiedBy>
  <dcterms:modified xsi:type="dcterms:W3CDTF">2015-02-13T11:06:39Z</dcterms:modified>
  <cp:revision>12</cp:revision>
  <dc:subject/>
  <dc:title>Закаливание организма и его влияние на здоровье человека</dc:title>
</cp:coreProperties>
</file>